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5C0-BEFC-4A4F-9EB4-5B11239F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AD2-8442-4E50-A4CF-63E2959A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F1C-5D03-49CF-B6F0-6054C491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EBA-747A-464A-B2E4-F90AD2ED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786-72D9-44EF-988C-E234259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93D-F732-4438-884A-3068C799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98C-78EE-403D-B485-466C720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BB3-3C05-4F16-B4ED-17A17A7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F89-7E7C-48F1-B5E8-336FB96C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112-E991-471E-9B15-B3B7AB18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9F0-4534-4FB4-954B-EE82C61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FB7-96CE-477E-8D71-688DDF0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962C-468F-4343-95FD-7186AE89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&amp;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3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inheri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ple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ers to the base class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-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rtual functions (polymorphi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1:25:37Z</dcterms:created>
  <dc:creator>Antonio Maiorano</dc:creator>
  <dc:description/>
  <dc:language>en-US</dc:language>
  <cp:lastModifiedBy>Tony</cp:lastModifiedBy>
  <dcterms:modified xsi:type="dcterms:W3CDTF">2003-08-23T18:07:31Z</dcterms:modified>
  <cp:revision>38</cp:revision>
  <dc:subject/>
  <dc:title>C/C++ Tutorial</dc:title>
</cp:coreProperties>
</file>